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8EFB-0D5D-4F2B-8F16-4AFB494A3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C1A6-7DA1-4068-A760-EE3A5ABE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8ED1-1520-43A7-A0B7-BB62117CF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2D99-8700-4A34-A35C-4B229114C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F9010-4B4D-4B74-81EB-A3CB54FB0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55120-550E-45BC-992B-B5F10675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00478-189B-4848-B96B-F463E3E6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C33F7-DA37-440B-AE7E-9AB1E036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8FCEE-C9A2-4DD0-8CF7-344DEE6E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6A31E-438C-498D-9E68-7D23AADE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DA941-EB58-42AA-AC5E-ECB36593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1D96-35B9-4878-9D38-9EE12508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B4604-D8CC-4598-B6D9-267D0579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0EDE1-672A-4B8E-85EF-DD9EA2D3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77F162-7781-492D-B51F-FABB7F2A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A7E1D-20B2-4146-8A7A-572A680C5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2E01A-70DE-4802-AC05-C398C320E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C418-89B3-4F70-848D-3A887339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067D-E470-4982-819E-F6FEF94A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6B82-4C7F-47B6-B90F-3963C415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BE39-69BA-4369-B08F-E375061E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E4B6-6A61-4162-B142-3D13757D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D0DF-ACB1-430D-BCC8-CC52D108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5E03-E3A8-4504-80EF-E0DF6A75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0E16-47B9-4DB9-958E-D0EAE04274F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98AA-69DF-4556-A12E-87184A1ECAF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es/imgres?imgurl=www-etsi2.ugr.es/download/logos/ugr512x512.gif&amp;imgrefurl=http://www-etsi2.ugr.es/download/logos/&amp;h=512&amp;w=512&amp;sz=120&amp;tbnid=9mWjbpoGjpoJ:&amp;tbnh=128&amp;tbnw=128&amp;prev=/images%3Fq%3Dugr%26hl%3Des%26lr%3D%26ie%3DUTF-8%26oe%3DUTF-8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Tahoma"/>
              </a:rPr>
              <a:t>ALTERACIONES ATENCIONALES Y DE LA FUNCIÓN EJECUTIVA EN ESCLEROSIS MÚLTIP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BAJO DE INVESTIGACIÓN D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ariángeles Rodríguez Artach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Tutor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 Dr. Miguel Pérez, Dra. Carmen Arnal y Dr. Emilio G. Milá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76720" y="3141720"/>
            <a:ext cx="259056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ahoma"/>
              </a:rPr>
              <a:t>LA ATENCIÓN NO ES UNITARI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65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iferenciamos al menos entr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0000"/>
                </a:solidFill>
                <a:latin typeface="Tahoma"/>
              </a:rPr>
              <a:t>Atención sostenida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o vigilancia (capacidad de atender a algo por varios minuto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Tahoma"/>
              </a:rPr>
              <a:t>Atención selectiva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(atender a la señal e ignorar los distractore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Tahoma"/>
              </a:rPr>
              <a:t>Atención dividida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o control (hacer dos cosas a la vez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Las tareas clásicas  de atención miden los tres componentes mezclados en diferente gr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ffffff"/>
                </a:solidFill>
                <a:latin typeface="Tahoma"/>
              </a:rPr>
              <a:t>MODELOS CLÍNICOS DE ATENCIÓ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modelo de Posner diferencia entre atención espacial (selectiva), alerta  (sostenida) y función ejecutiva (control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ide los tres componentes con una tarea de Tiempo de Reacción (TR): ANT o test de las redes atenciona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función ejecutiva no es unitaria: Control, inhibición de respuesta, memoria de trabajo, cambio de intención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ada uno de estos componentes se mide con tareas diferentes de T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Vamos a incorporar por primera vez estas tareas en la Evaluación Neuropsicológica en 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ahoma"/>
              </a:rPr>
              <a:t>OBJETIVOS DEL TRABAJ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terminar con claridad si hay alteraciones atencionales en EMR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leccionar tareas atencionales psicométricas y de TR que midan todos los componentes de la aten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tudiar su validez convergente (si miden lo mism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terminar si las variables clínicas (depresión, discapacidad física...) afectan al rendimiento en las tareas atencion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ahoma"/>
              </a:rPr>
              <a:t>HIPÓTESI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 EM se produce lentitud de procesamiento de la inform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 EM se produce depresión y ansie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 EM se produce un daño atencional, que no se debe a los anteriores facto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daño atencional es específico (hay componentes intactos y otros dañad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s tareas psicométricas miden atención general y las de TR componentes específic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s tareas de TR capturan mejor el daño atencional en 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ahoma"/>
              </a:rPr>
              <a:t>MÉTOD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articipantes: 26 personas con EMRR del servicio de Neurología del Hospital Virgen de las Nieves y 26 contro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rocedimiento: cada participante pasa todas las tareas en dos sesiones de una hora de duración cada una, de manera individu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ahoma"/>
              </a:rPr>
              <a:t>PROTOCOL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Tahoma"/>
              </a:rPr>
              <a:t>Tareas  de atención Psicométrica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2 (mide atención selectiva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VSAT (prueba de búsqueda visual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apa del Zoo (mide capacidad de planificar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uestionario de Ponsford y Kinsella (mide auto-percepción de problemas atencionale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ahoma"/>
              </a:rPr>
              <a:t>PROTOCOL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Tahoma"/>
              </a:rPr>
              <a:t>Tareas atencionales de TR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NT (mide alerta, orientación y control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aradigma del costo por cambio de tarea (flexibilidad cognitiva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Tarea Stroop (mide control de interferencia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Tarea de memoria de trabajo N hacia atrás (mide mantenimiento en curso de la información y carga de memoria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ahoma"/>
              </a:rPr>
              <a:t>PROTOCOLO</a:t>
            </a: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Tahoma"/>
              </a:rPr>
              <a:t>Tareas no atencional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ini Examen Cognoscitivo (MEC de Lobo): mide deterioro cognitivo gener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TAI de Spielberg: mide ansiedad de estado y rasg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DI de Beck, inventario de depres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EDA de Kurtzke para medir discapacid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ffffff"/>
                </a:solidFill>
                <a:latin typeface="Tahoma"/>
              </a:rPr>
              <a:t>RESULTADOS en tareas psicométrica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Citamos sólo las tareas atencionales donde hubo diferencias significativas entre los dos grupos con el tamaño del efecto muy gran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ahoma"/>
              </a:rPr>
              <a:t>TAREAS PSICOMÉTRICAS: VS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042920" y="1773360"/>
            <a:ext cx="7201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ahoma"/>
              </a:rPr>
              <a:t>LA ESCLEROSIS MÚLTIP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Esclerosis Múltiple (EM), es una enfermedad crónica del sistema nervioso central (SNC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fecta con más frecuencia a personas jóve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EM se caracteriza por placas: son lesiones inflamatorias y áreas de pérdida axonal y mieli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uede ser leve, incapacitante o devastado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¿Qué causa la EM?. Se desconoce pero se considera una Enfermedad Autoinmune, las propias defensas del organismo atacan al SN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ahoma"/>
              </a:rPr>
              <a:t>DATOS DEL VS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media de objetivos de los controles es 170, la de los pacientes es 9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 = 2.6, % de solapamiento = 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s decir, sólo 10 de cada 100 pacientes puntúa de manera semejante a los contro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ahoma"/>
              </a:rPr>
              <a:t>TAREAS DE TR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Sólo el paradigma del cambio de tarea y la tarea Stroop muestran un gran tamaño del efec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Tahoma"/>
              </a:rPr>
              <a:t>Cambio de tarea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: La persona debe alternar entre dos tareas continuamente. Esto aumenta su Tiempo de Reacción. Es decir, produce un costo. A menor costo, mayor flexibilidad cognitiva o capacidad de cambiar de activ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ffffff"/>
                </a:solidFill>
                <a:latin typeface="Tahoma"/>
              </a:rPr>
              <a:t>DESCRIPCIÓN DEL CAMBIO DE TARE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ahoma"/>
              </a:rPr>
              <a:t>DESCRIPCIÓN DE LAS TAREA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ahoma"/>
              </a:rPr>
              <a:t>Tarea 1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 Decir la dirección hacia la que apunta una flecha, izquierda (&lt;-)  o derecha (-&gt;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c600"/>
                </a:solidFill>
                <a:latin typeface="Tahoma"/>
              </a:rPr>
              <a:t>Tarea 2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 Indicar el hemicampo visual donde aparece la flecha, izquierdo o derecho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cuencia  de ensayos </a:t>
            </a:r>
            <a:r>
              <a:rPr b="0" lang="es-ES" sz="2000" spc="-1" strike="noStrike">
                <a:solidFill>
                  <a:srgbClr val="ff0000"/>
                </a:solidFill>
                <a:latin typeface="Tahoma"/>
              </a:rPr>
              <a:t>T1t1t1</a:t>
            </a:r>
            <a:r>
              <a:rPr b="0" lang="es-ES" sz="2000" spc="-1" strike="noStrike">
                <a:solidFill>
                  <a:srgbClr val="00c600"/>
                </a:solidFill>
                <a:latin typeface="Tahoma"/>
              </a:rPr>
              <a:t>T2t2t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ipo de ensayo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De cambio de tarea respecto al ensayo anterior (el primero de cada serie de tres: T1 y T2 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De repetición de tarea (el segundo y tercero de la serie: t1t1 y t2t2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cc00"/>
                </a:solidFill>
                <a:latin typeface="Tahoma"/>
              </a:rPr>
              <a:t>COSTO: Diferencia en TR entre ensayos de cambio y repetición de tare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ahoma"/>
              </a:rPr>
              <a:t>Tareas de TR: el cost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aradigma del costo por cambio de tarea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 &gt;4, %= 2. Es decir, sólo 2 de cada 100 pacientes tiene un costo semejante a los contro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l costo de los controles es de 49 milisegundos, el de los pacientes de 72 milisegun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l TR de los controles es de  400 milisegundos, el de los pacientes de 800 milisegun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ahoma"/>
              </a:rPr>
              <a:t>TAREA STROO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amaño del efecto: d=1.7, %=24.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e cada 100 pacientes sólo 24 tienen un efecto Stroop igual que el de los contro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fecto de 115 milisegundos en pacient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fecto de 64 milisegundos en contro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ffffff"/>
                </a:solidFill>
                <a:latin typeface="Tahoma"/>
              </a:rPr>
              <a:t>PAPEL DE LAS VARIABLES CLÍNICA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ejecución con el paradigma del Cambio de tarea no se ve afectada por la puntuación en depresión, ansiedad o discapacidad fís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ejecución en el VSAT sí se ve afectada por todas las variables clínicas. A más depresión, ansiedad o discapacidad, peor puntu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tas variables también afectan  a las puntuaciones en el cuestionario de Ponsford y Kinsella en el mismo senti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RESULTADOS PARA LAS VARIABLES CLÍNICAS EN LOS PACIENTES: </a:t>
            </a:r>
            <a:r>
              <a:rPr b="0" i="1" lang="es-ES" sz="3200" spc="-1" strike="noStrike">
                <a:solidFill>
                  <a:srgbClr val="ffcc00"/>
                </a:solidFill>
                <a:latin typeface="Tahoma"/>
              </a:rPr>
              <a:t>ANSIE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nsiedad alta v baja: tienen una d de Cohen de 2.4; un % de solapamiento de 1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Grupo Ansiedad alta: en VSAT 83 objetivos tach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Grupo Ansiedad baja: en VSAT 123 objetiv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RESULTADOS PARA LAS VARIABLES CLÍNICAS EN LOS PACIENTES: </a:t>
            </a:r>
            <a:r>
              <a:rPr b="0" i="1" lang="es-ES" sz="3200" spc="-1" strike="noStrike">
                <a:solidFill>
                  <a:srgbClr val="ffcc00"/>
                </a:solidFill>
                <a:latin typeface="Tahoma"/>
              </a:rPr>
              <a:t>DEPRES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epresión ausente v significativa: una d de Cohen &gt;4; % de solapamiento de 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Grupo depresión ausente: en VSAT tiene 120 objetiv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Grupo depresión significativa: en VSAT tiene 80 objetivo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ahoma"/>
              </a:rPr>
              <a:t>VALIDEZ CONVERGENT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correlación entre VSAT y Paradigma del cambio de tarea es de – 0.77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tarea ANT de Posner no correlaciona con ninguna otra tarea aten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s correlaciones de las restantes tareas psicométricas con las demás tareas son moderadas: entre 0.40 y -0.4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s correlaciones de los índices de función ejecutiva en TR entre sí son altas: 0.6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ahoma"/>
              </a:rPr>
              <a:t>DISCUSIÓ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o todas las tareas atencionales miden lo mism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os pacientes muestran daño en unas sí y en otras n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s tareas más discriminativas so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1.  Paradigma del cambio de tarea, VSAT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2. Tarea de Stroop, memoria de trabajo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3. Ponsford y Kinsell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o discriminan: D2, el mapa del Zoo y AN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s variables clínicas no afectan  a las tareas de T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s variables clínicas sí afectan más a las pruebas psicométric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 lentitud del procesamiento no explica los problemas atencionales, pues son lentos en todas las tareas pero sólo tienen problemas atencionales en algun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odo lo anterior podría explicar los resultados contradictorios previ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ffffff"/>
                </a:solidFill>
                <a:latin typeface="Tahoma"/>
              </a:rPr>
              <a:t>ESCLEROSIS MÚLTIPLE  Y DESMIELINIZACIÓ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s fibras nerviosas que entran y salen del cerebro están envueltas por una membrana aislante llamada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mieli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mielina permite una conducción, veloz y precisa, de los impulsos eléctricos a lo largo de la fibra nervios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lgunas enfermedades autoinmunes provocan la destrucción de la mielina (desmielinización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EM conlleva la desmielinización en el sistema nervioso central (cerebro y médula espinal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Cuando la mielina está dañada los nervios no conducen los impulsos de forma adecua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ahoma"/>
              </a:rPr>
              <a:t>CONCLUSIONE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os pacientes son más len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os pacientes son igual de exa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os pacientes perciben que tienen problemas atencion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os pacientes tienen problemas de depresión y ansie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os pacientes no tienen deterioro cognitivo gener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os pacientes muestran menos capacidad de búsqueda visual y menor flexibilidad cogni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6699ff"/>
                </a:solidFill>
                <a:latin typeface="Tahoma"/>
              </a:rPr>
              <a:t>PERSPECTIVAS FUTUR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plicar nuestra evaluación neuropsicológica atencional a muestras de pacientes más amplias y homogéneas (años de evolución, número de brotes...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Trabajar en la rehabilitación atencional de pacientes con 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Ver si la rehabilitación atencional puede mejorar los problemas de memoria o de resolución de problem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ffffff"/>
                </a:solidFill>
                <a:latin typeface="Tahoma"/>
              </a:rPr>
              <a:t>GRACIAS POR SU ATENCIÓ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124000" y="2133720"/>
            <a:ext cx="39592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ffffff"/>
                </a:solidFill>
                <a:latin typeface="Tahoma"/>
              </a:rPr>
              <a:t>SÍNTOMAS PRINCIPALES DE LA E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euritis óptica: inflamación del nervio óptico (Visión doble o borrosa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ificultad para camin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bilidad en los músculos de las extremidad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ificultades de coordin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atig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pastic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Temblo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Deterioros cognitivos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ahoma"/>
              </a:rPr>
              <a:t>DIAGNÓSTICO Y TRATAMIENT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xisten los Criterios Diagnósticos de Poser (1983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o mejor es combinar los marcadores neurofisiológicos  (RM) con el juicio clín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ubtipos: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EM Remitente-Recurrente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(EMRR) y EM progres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EDA- mide la severidad funcional de la 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Tratamiento principal: Interferon beta para disminuir el número de brotes del paci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ffffff"/>
                </a:solidFill>
                <a:latin typeface="Tahoma"/>
              </a:rPr>
              <a:t>LA INVESTIGACIÓN NEUROPSICOLÓGICA EN E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 ha caracterizado por la variedad de los procedimientos utilizados: baterías amplias o brev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uebas no equivalentes para medir la misma fun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 utilizan muestras de pacientes muy heterogéneas en su clínica (subtipos de EM, años de evolución..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o anterior conduce a resultados contradictor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ffffff"/>
                </a:solidFill>
                <a:latin typeface="Tahoma"/>
              </a:rPr>
              <a:t>LA DISFUNCIÓN COGNITIVA EN E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 el 4º problema, tras los problemas de locomoción, incontinencia y emocional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iene un carácter individual e impredecible porque el patrón de desarrollo de las placas es aleatorio en cada paci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os déficits cognitivos pueden no ser apreciables en la convers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Tahoma"/>
              </a:rPr>
              <a:t>El principal problema es la lentitud en la velocidad de procesamiento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No son predecibles por el daño cerebral, el curso de la enfermedad o el grado de discapacidad físic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ffffff"/>
                </a:solidFill>
                <a:latin typeface="Tahoma"/>
              </a:rPr>
              <a:t>PERFIL NEUROPSICOLÓGICO EN E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Capacidad intelectua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suelen presentar alteraciones en pruebas que miden el C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Razonamiento abstract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tienen rendimientos inferio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Lenguaje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no es frecuente los problemas en este área, salvo en fluidez verb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Memori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El recuerdo está más afectado que el reconocimiento. La memoria de trabajo verbal es la más afecta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Percepción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Las dificultades visuoperceptivas pueden ser secundarias a la neuritis óptic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Motivación y emoción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Son frecuentes las alteraciones del estado de ánimo, depresión y ansieda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ahoma"/>
              </a:rPr>
              <a:t>ATENCIÓN Y E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Los estudios sobre alteraciones atencionales en EM ofrecen resultados contradictorio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:  En ocasiones esta función parece intacta y en otras daña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areas atencionales más usadas: PASAT, Stroop, Wisconsin Card Sorting Test, Trail Making Test...(TODAS SON PSICOMÉTRICA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17:18:47Z</dcterms:created>
  <dc:creator>mara</dc:creator>
  <dc:description/>
  <dc:language>en-US</dc:language>
  <cp:lastModifiedBy>mara</cp:lastModifiedBy>
  <dcterms:modified xsi:type="dcterms:W3CDTF">2006-06-17T20:02:48Z</dcterms:modified>
  <cp:revision>126</cp:revision>
  <dc:subject/>
  <dc:title>ALTERACIONES ATENCIONALES Y DE LA FUNCIÓN EJECUTIVA EN ESCLEROSIS MÚLTI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