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620-55A7-4E61-A304-0224586A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F59-8AF7-4985-A34B-BE6611BB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6B4-B8D0-4B9E-9C4F-5F7A7F65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ECD-0F85-46B9-8B9B-7EA9CCD7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9C24-AF9E-46BF-AA03-72BC81BA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5DAE-4A07-4F28-B2EA-E93EA9B5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8C01-C4E1-41BF-B6C3-60B09150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6536-6D41-4CE6-BCE8-3BF5FE63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E84B-9039-4102-9C8F-A95DA352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7C48-C212-4076-B862-F5D36649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7A6F-E7CD-4C08-9CBC-48180CD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131-1855-4CF5-ACF9-2E7E3A7E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03D1-EC65-4FBC-90BA-DDB6834A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7E1F-95E7-4077-BC40-6563D307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13F7-3800-4A14-B0EC-752DE1F6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B1A6-8B72-4B9C-8C44-B303B319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427D-2A05-4D63-BF65-C6846B99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CD1-F75D-4AF6-880C-1C792E49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AF9-1448-4FCF-95AB-31F8022E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E1A-C27D-4635-8B39-F6F58FD1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30B-6CFD-4987-9B41-C731DBF3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671-01CA-4E9B-95DF-63688A03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7A6-BF7F-4ECF-BC4F-B65650C8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BA7-0004-4155-AC10-12049FBC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8D01-084D-4F56-9EE5-3FBEB73A79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" name="Text Box 199"/>
          <p:cNvSpPr/>
          <p:nvPr/>
        </p:nvSpPr>
        <p:spPr>
          <a:xfrm>
            <a:off x="5219640" y="6400800"/>
            <a:ext cx="392436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cc6600"/>
                </a:solidFill>
                <a:latin typeface="Arial"/>
              </a:rPr>
              <a:t>Evaluación no destructiva del daño y calidad de estructur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6600"/>
                </a:solidFill>
                <a:latin typeface="Arial"/>
              </a:rPr>
              <a:t>Dpto.  Mecánica de Estructuras  Universidad de Granada</a:t>
            </a:r>
            <a:r>
              <a:rPr b="0" lang="en-US" sz="1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ef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eff0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54"/>
          <p:cNvSpPr/>
          <p:nvPr/>
        </p:nvSpPr>
        <p:spPr>
          <a:xfrm>
            <a:off x="3780000" y="6308640"/>
            <a:ext cx="53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6600"/>
                </a:solidFill>
                <a:latin typeface="Arial"/>
              </a:rPr>
              <a:t>Evaluación no destructiva del daño y calidad de estructu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Arial"/>
              </a:rPr>
              <a:t>Dpto.  Mecánica de Estructuras  Universidad de Granada</a:t>
            </a:r>
            <a:r>
              <a:rPr b="0" lang="en-US" sz="1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6633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0C11-F14F-4F8A-B8B7-FE75569B8D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666633"/>
                </a:solidFill>
                <a:latin typeface="Arial"/>
              </a:rPr>
              <a:t>2</a:t>
            </a:r>
            <a:br>
              <a:rPr sz="4100"/>
            </a:br>
            <a:r>
              <a:rPr b="0" lang="es-ES_tradnl" sz="3600" spc="-1" strike="noStrike">
                <a:solidFill>
                  <a:srgbClr val="666633"/>
                </a:solidFill>
                <a:latin typeface="Arial"/>
              </a:rPr>
              <a:t>Introducción a Problemas Inversos </a:t>
            </a:r>
            <a:r>
              <a:rPr b="0" lang="es-ES" sz="41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illermo Rus Carlborg            U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troproyección filtrada (filtered back-projec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440" y="3249720"/>
            <a:ext cx="6096240" cy="2762280"/>
          </a:xfrm>
          <a:prstGeom prst="rect">
            <a:avLst/>
          </a:prstGeom>
          <a:ln w="0">
            <a:noFill/>
          </a:ln>
        </p:spPr>
      </p:pic>
      <p:pic>
        <p:nvPicPr>
          <p:cNvPr id="135" name="Macintosh HD:Users:grus:Documents:estructuras2009:docto_end:END_alumnos:ppt:fbp_recon.mpg" descr="/Users/grus/Documents/estructuras2009/docto_end/END_alumnos/ppt/fbp_recon.mpg"/>
          <p:cNvPicPr/>
          <p:nvPr/>
        </p:nvPicPr>
        <p:blipFill>
          <a:blip r:embed="rId2"/>
          <a:stretch/>
        </p:blipFill>
        <p:spPr>
          <a:xfrm>
            <a:off x="6372360" y="324972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troproyección filtrada (filtered back-projec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img19"/>
          <p:cNvPicPr/>
          <p:nvPr/>
        </p:nvPicPr>
        <p:blipFill>
          <a:blip r:embed="rId1"/>
          <a:stretch/>
        </p:blipFill>
        <p:spPr>
          <a:xfrm>
            <a:off x="5535720" y="2070000"/>
            <a:ext cx="3284280" cy="207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rcRect l="3544" t="25209" r="3154" b="7048"/>
          <a:stretch/>
        </p:blipFill>
        <p:spPr>
          <a:xfrm>
            <a:off x="395280" y="3573360"/>
            <a:ext cx="5688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troproyección filtrada (filtered back-projec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Corrección de la atenuación: el más usado es el método de Chang, que supone atenuación constante, y proporciona una máscara que da el promedio de todas las atenuaciones que pasan por un pixel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img28"/>
          <p:cNvPicPr/>
          <p:nvPr/>
        </p:nvPicPr>
        <p:blipFill>
          <a:blip r:embed="rId1"/>
          <a:srcRect l="0" t="0" r="44070" b="0"/>
          <a:stretch/>
        </p:blipFill>
        <p:spPr>
          <a:xfrm>
            <a:off x="2050920" y="4941720"/>
            <a:ext cx="4464360" cy="8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..to solve an inverse problem means to discover the cause of a known result. Hence, all problems of the interpretation of observed data are actually inverse [problem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. N. Tikhonov y A. V. Goncharsky, 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Principalmente: con rayos X en imagen médica (CT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Recientemente: con ultrasonidos - geotec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e puede usar siempre que se puedan realizar muchas medidas de una magnitud que se transmita en forma de rayo con muchos emisores y muchos recepto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se matemática (J. Radon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transformada de rad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569360" y="4941720"/>
            <a:ext cx="103500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gnitud se propaga en forma de rayo, según una direcció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atenúa exponenci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: modelo 2D/3D de la atenuació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μ(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809880" cy="371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898560" y="4076640"/>
            <a:ext cx="367344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odelo más simple es el de proyección paralela,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ón r, a un ángulo 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tenuación total es el logaritmo d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valor de r para un punto (x,y)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tenuación total ser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 es la integral de radón o sin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908000" y="4149720"/>
            <a:ext cx="2951280" cy="38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6378480" y="1413000"/>
            <a:ext cx="2514600" cy="245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\mathcal{R} [ f ](\theta,s) = \int_{-\infty}^{\infty} \int_{-\infty}^{\infty} f(x,y) \delta(x\cos \theta  + y\sin \theta - s ) \, dx \, dy."/>
          <p:cNvPicPr/>
          <p:nvPr/>
        </p:nvPicPr>
        <p:blipFill>
          <a:blip r:embed="rId3"/>
          <a:stretch/>
        </p:blipFill>
        <p:spPr>
          <a:xfrm>
            <a:off x="1332000" y="4886280"/>
            <a:ext cx="655308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teorema de la sección-proyección demuestra que con un número infinito de ángulos y posiciones se puede recomponer exactamente el mapa de aten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916360" y="4049640"/>
            <a:ext cx="57974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ntegral de radón es demasiado inestable y sensible a ruido en las mediciones. La solución está en la retroproyección filtr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4287960" y="1700280"/>
            <a:ext cx="46767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troproyección filtrada (filtered back-projec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Partimos de la transformada de Fourier 1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En 2D para un punto             e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Si sustituimos las coordenadas (x,y) por (s,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\hat{f}(\omega)=\frac{1} {{(2\pi)}^{1/2}}\int f(x)e^{-ix\omega }\,dx."/>
          <p:cNvPicPr/>
          <p:nvPr/>
        </p:nvPicPr>
        <p:blipFill>
          <a:blip r:embed="rId1"/>
          <a:stretch/>
        </p:blipFill>
        <p:spPr>
          <a:xfrm>
            <a:off x="2987640" y="3141720"/>
            <a:ext cx="3529080" cy="68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\mathbf{x}=(x,y)"/>
          <p:cNvPicPr/>
          <p:nvPr/>
        </p:nvPicPr>
        <p:blipFill>
          <a:blip r:embed="rId2"/>
          <a:stretch/>
        </p:blipFill>
        <p:spPr>
          <a:xfrm>
            <a:off x="4643280" y="3789360"/>
            <a:ext cx="1008360" cy="266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\hat{f}(\mathbf{w})=\frac{1} {{2\pi}}\int\limits_{-\infty}^{\infty} \int\limits_{-\infty }^{\infty}  f(\mathbf{x})e^{-i\mathbf{x}\cdot\mathbf{w}}\,dx\, dy"/>
          <p:cNvPicPr/>
          <p:nvPr/>
        </p:nvPicPr>
        <p:blipFill>
          <a:blip r:embed="rId3"/>
          <a:stretch/>
        </p:blipFill>
        <p:spPr>
          <a:xfrm>
            <a:off x="2987640" y="4365720"/>
            <a:ext cx="3527640" cy="82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\widehat{R_{\theta}[f]}(\sigma)=\sqrt{2\pi}\hat{f}(\sigma\mathbf{n}(\theta))."/>
          <p:cNvPicPr/>
          <p:nvPr/>
        </p:nvPicPr>
        <p:blipFill>
          <a:blip r:embed="rId4"/>
          <a:stretch/>
        </p:blipFill>
        <p:spPr>
          <a:xfrm>
            <a:off x="2987640" y="5950080"/>
            <a:ext cx="345600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troproyección filtrada (filtered back-projec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Operador Back-projection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Filtro Rampa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cc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plicando la transformada de Fouri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R^{*}[g](\mathbf{x})= \int_{\theta=0}^{2\pi} g(\theta,\mathbf{n}(\theta)\cdot \mathbf{x})\,d\theta,"/>
          <p:cNvPicPr/>
          <p:nvPr/>
        </p:nvPicPr>
        <p:blipFill>
          <a:blip r:embed="rId1"/>
          <a:stretch/>
        </p:blipFill>
        <p:spPr>
          <a:xfrm>
            <a:off x="2268360" y="3141720"/>
            <a:ext cx="4176720" cy="784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3492360" y="4076640"/>
            <a:ext cx="2952720" cy="507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2268360" y="5157720"/>
            <a:ext cx="21607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666633"/>
                </a:solidFill>
                <a:latin typeface="Arial"/>
              </a:rPr>
              <a:t>Tomografía</a:t>
            </a:r>
            <a:endParaRPr b="0" lang="en-US" sz="3800" spc="-1" strike="noStrike">
              <a:solidFill>
                <a:srgbClr val="6666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troproyección filtrada (filtered back-projection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img9"/>
          <p:cNvPicPr/>
          <p:nvPr/>
        </p:nvPicPr>
        <p:blipFill>
          <a:blip r:embed="rId1"/>
          <a:stretch/>
        </p:blipFill>
        <p:spPr>
          <a:xfrm>
            <a:off x="6037200" y="2128680"/>
            <a:ext cx="2549520" cy="4329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2"/>
          <a:srcRect l="9456" t="15727" r="3154" b="7080"/>
          <a:stretch/>
        </p:blipFill>
        <p:spPr>
          <a:xfrm>
            <a:off x="900000" y="2708280"/>
            <a:ext cx="5327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51:50Z</dcterms:created>
  <dc:creator/>
  <dc:description/>
  <dc:language>en-US</dc:language>
  <cp:lastModifiedBy>Guillermo Rus</cp:lastModifiedBy>
  <dcterms:modified xsi:type="dcterms:W3CDTF">2010-11-26T12:34:12Z</dcterms:modified>
  <cp:revision>329</cp:revision>
  <dc:subject/>
  <dc:title>PowerPoint Presentation</dc:title>
</cp:coreProperties>
</file>